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54DC-C73D-4568-826B-C4F4B38C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71CC-91A3-4ECE-BB5A-957BF28E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0CBC-CDF3-4CA8-BB22-4EB83B504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94D7-A9D8-4CFB-92A3-914EDDED3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03B0-358F-414D-A1D8-52452CB1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3817-59C6-4A87-A001-AF0A8395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C7C1-3917-4849-8ACD-1F1EADC8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879C-9036-4DBD-B860-F9EABD43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62B8-0A8A-4D7B-BABF-E3CFB7BE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06F3-FD9B-45E5-8F28-E373DDA4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A158-2F46-43CE-B3D3-A0684BAA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78F8-BE42-43E6-AA0E-69A55121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34DF-F51D-43F1-95E3-02E6F326C70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7772400" cy="21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WF phase 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lta Basin Development Challe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ommunication and document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ogress so f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pportunities and challe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6227640" y="5589720"/>
            <a:ext cx="252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Calibri"/>
              </a:rPr>
              <a:t>September 20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Progress so far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000" y="1197000"/>
            <a:ext cx="8496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BDC Comm. strategy and projects’ comm. operational plans draf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lingual website running properly and attracting more and more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amped wiki site to facilitate online collaboration among VBDC researc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ous stakeholder engagement activities took place (e.g. forum on agri water; VBA &amp; GWP network meetings; project platforms; field tour &amp; reflection workshop;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Progress so far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95280" y="1197000"/>
            <a:ext cx="81583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dates on the VBDC research sent out to stakeholders regular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ective use of comm tools/channels developed by CPWF global program (e.g. CG Space; Yammer; SlideShare;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 documents produced include dissemination materials (flyers, brochures, posters, un/processed video pieces), working papers, conference papers, press articles, and blog pie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amped wiki site to facilitate online collaboration among VBDC researc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Major opportun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9280" y="1125360"/>
            <a:ext cx="8425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hort bilingual documentary video to disseminate intermediate or final research results through national TVs in Burkina Faso &amp;  Ghan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 intermediate or final research outputs into digestible messages to be disseminated through community radios in intervention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BA &amp; GWP networks and the Learning Group on WRM are used to facilitate the uptake of VBDC research results by policy-makers and water manag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Critical ga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5280" y="1483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get expert support in drawing out, synthesizing, repackaging key messages generated by research project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the effectiveness of stakeholder eng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8T06:47:18Z</dcterms:created>
  <dc:creator>eleborgne</dc:creator>
  <dc:description/>
  <dc:language>en-US</dc:language>
  <cp:lastModifiedBy>eleborgne</cp:lastModifiedBy>
  <dcterms:modified xsi:type="dcterms:W3CDTF">2012-09-10T12:31:58Z</dcterms:modified>
  <cp:revision>4</cp:revision>
  <dc:subject/>
  <dc:title>CPWF phase 2</dc:title>
</cp:coreProperties>
</file>